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284-D3ED-4BA5-AE74-96FC79C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4AE-37AB-4D93-9AF3-86AF718D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9A1-9C6A-49A2-BA34-423AD985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0FC-E5BD-43BA-9195-7CA460DF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FD1-1823-457B-A62B-3028965A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CF1-E558-4F11-B760-9D648DB9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B9D-C9D5-4686-97D8-CEDE7C19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BED-567D-4375-9DA0-35A9EE1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071-4A3A-4C01-905B-7BA00C1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4C2-330E-4F14-AC89-85D7726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10D-B6F6-446A-A172-D4747E9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B4D-79DD-4FA1-9DE4-F95AD05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70E-3C87-4DF1-BCA1-EEE595160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0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429000" y="1066680"/>
            <a:ext cx="167652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 7,353,985 men and women and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86000" y="2666880"/>
            <a:ext cx="426708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: Parliamentary Democr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Heb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 Judaism 20.8% , Islam19.9%, Christianity 8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o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 of Isra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hhh.bmp"/>
          <p:cNvPicPr/>
          <p:nvPr/>
        </p:nvPicPr>
        <p:blipFill>
          <a:blip r:embed="rId1"/>
          <a:stretch/>
        </p:blipFill>
        <p:spPr>
          <a:xfrm>
            <a:off x="0" y="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untitled.bmp"/>
          <p:cNvPicPr/>
          <p:nvPr/>
        </p:nvPicPr>
        <p:blipFill>
          <a:blip r:embed="rId2"/>
          <a:stretch/>
        </p:blipFill>
        <p:spPr>
          <a:xfrm>
            <a:off x="6356520" y="4495680"/>
            <a:ext cx="27874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image1.masterfile.com/em_w/00/01/20/600-00012064w.jpg"/>
          <p:cNvPicPr/>
          <p:nvPr/>
        </p:nvPicPr>
        <p:blipFill>
          <a:blip r:embed="rId3"/>
          <a:stretch/>
        </p:blipFill>
        <p:spPr>
          <a:xfrm>
            <a:off x="0" y="34290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http://www.yasudastudio.com/067FlagIsrael/FlagIsWM.jpg"/>
          <p:cNvPicPr/>
          <p:nvPr/>
        </p:nvPicPr>
        <p:blipFill>
          <a:blip r:embed="rId4"/>
          <a:stretch/>
        </p:blipFill>
        <p:spPr>
          <a:xfrm>
            <a:off x="2666880" y="55627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3581280" y="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ael right region and left map of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3"/>
          <p:cNvCxnSpPr/>
          <p:nvPr/>
        </p:nvCxnSpPr>
        <p:spPr>
          <a:xfrm flipH="1">
            <a:off x="2742840" y="913320"/>
            <a:ext cx="8388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12"/>
          <p:cNvSpPr/>
          <p:nvPr/>
        </p:nvSpPr>
        <p:spPr>
          <a:xfrm>
            <a:off x="228600" y="3124080"/>
            <a:ext cx="1828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ing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7086600" y="32767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ws washing close in hol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ravis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yazi_11_1.jpg"/>
          <p:cNvPicPr/>
          <p:nvPr/>
        </p:nvPicPr>
        <p:blipFill>
          <a:blip r:embed="rId5"/>
          <a:stretch/>
        </p:blipFill>
        <p:spPr>
          <a:xfrm>
            <a:off x="6022800" y="0"/>
            <a:ext cx="3121200" cy="304812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11"/>
          <p:cNvCxnSpPr/>
          <p:nvPr/>
        </p:nvCxnSpPr>
        <p:spPr>
          <a:xfrm>
            <a:off x="6094800" y="304920"/>
            <a:ext cx="762840" cy="762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02:00Z</dcterms:modified>
  <cp:revision>21</cp:revision>
  <dc:subject/>
  <dc:title>Slide 1</dc:title>
</cp:coreProperties>
</file>